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AF6-FD77-474C-A5DE-123F11F6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B2F-9C48-407B-978E-743AF6E4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7BE-B587-4DCB-8E17-14270536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EA0-D5BB-451F-BC58-ABB617E5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EDE-4AFB-4DA0-9004-BA59F97F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486-C743-44C7-9B25-EAD63ECA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9CD-FB62-423A-B629-A6A1B9A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DD2-E18B-43EE-B068-9E42F8FA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872-D6F7-4E05-AA1C-D784F051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C3B-3677-4F1F-BE68-3A42F0D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496-BFDF-4FC3-B743-7D6A629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527-F176-4830-8294-172A9B5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0AE1-EA95-45A7-8556-4FED22B8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aac New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521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Lincolnshire in 16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Kensington, London in 17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661, Newton entered Trinity College, Cambri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339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ements/other work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’s first major public scientific achievement was the invention, design and construction of a reflecting telescop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 became Lucasian Professor of Mathematics in 16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ac’s knowledge of the Bible impressed the people around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45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the theories of gravitation in 1666, when he was only 23 years 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666, Newton had formulated early versions of his three Laws of Mo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that all bodies exert a gravitational attraction on surrounding bod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impressed force is an action exerted upon a body, in order to change its state, either of rest, or of moving uniformly forward in a right 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quantity of motion is the measure of the same, arising from the velocity and quantity of matter conjunct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gured out the force needed to hold a stone in a s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d the force needed to keep the moon in mo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oandeinstein.physics.virginia.edu/lectures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scidiv.bellevuecollege.edu/MATH/Newt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isaacnewtons.com/ma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tinternet.com/~glynhughes/squashed/new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6:56:55Z</dcterms:created>
  <dc:creator>Owner</dc:creator>
  <dc:description/>
  <dc:language>en-US</dc:language>
  <cp:lastModifiedBy>Owner</cp:lastModifiedBy>
  <dcterms:modified xsi:type="dcterms:W3CDTF">2010-02-05T08:04:03Z</dcterms:modified>
  <cp:revision>3</cp:revision>
  <dc:subject/>
  <dc:title>Isaac Newton</dc:title>
</cp:coreProperties>
</file>